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5DDE-D776-4E8C-9101-B133A91F8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2601-34ED-4186-A295-7DB2B7B3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1F94-3768-436E-A1FC-CE233526F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A6B2-E8BF-4DC7-AEB8-703134A12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FAD3-9638-4055-AB39-143A08D11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533A-E280-4BC4-95D0-B4902C29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23C8-FBB3-478C-BDFC-012733120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2463-CEAA-4EEF-AAA7-EF64D8DF6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294A-BF82-4ABF-B672-FEED1B578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53AB-B89F-46DF-A370-F8071AEA5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E0B-2690-4018-BEFF-F44675DE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272-F0EF-427E-B3A2-D43065CE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DD2-FACF-4B16-94D4-D8C515BB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BC8-B684-4513-AE45-A07CC881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2ED8-311E-4FA9-BAFB-AE615E30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161E-A5A8-45F6-9C84-824C1C10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06D3-907A-4A94-A84E-298A4BA4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488C-01FC-4B80-847D-2DF24643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F2A5-F85D-459E-AB64-75056672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0148-61F9-45A9-925F-05545F5E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4D01-EF53-4C81-AD00-AD3C9ED1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70B-AB72-46D1-8EBB-039E5838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776C-215D-43F5-848F-42039525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D880-4D4B-4BD4-AC7F-56C40C95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B0D1-EAB3-445A-90B7-94BFFE9F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F4BB-874F-498D-B5EE-608AB7B1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E7BC-02A9-4A2E-9AE5-B8F7E732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4F2-F81D-42CC-878D-10124AE1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E82-0258-4DA4-A257-2623DE26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D27-B3E1-4DC1-A025-5688C39E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DCB-548C-4034-B976-1A406B5F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F4C-D2BB-4BA1-9329-4E44ABE5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E11-064A-48E7-A14A-7B504F3F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F9C-92DB-4DC0-AFE1-4569D4A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149F-01D1-40FF-8169-1857996E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15D5-409B-4986-8924-F9C78778F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1280" y="2168640"/>
            <a:ext cx="6891480" cy="16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ame of Your Count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03848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ourism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points of interest in your country that people from other countries may be interested in vis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here (your country) is locat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which cont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 is 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and wh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ries are 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ighb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647960" y="21337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45720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79992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Geographic Features of (your country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y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vers, lakes, ocea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ain ranges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geograph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that can 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or next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m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typical weather patterns in your country throughout the calendar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viro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ome of the native animals and plants that can be seen in 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stor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609480" y="21337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timeline of the important historical events of your country or provi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50920" y="3249720"/>
          <a:ext cx="8713800" cy="3203640"/>
        </p:xfrm>
        <a:graphic>
          <a:graphicData uri="http://schemas.openxmlformats.org/drawingml/2006/table">
            <a:tbl>
              <a:tblPr/>
              <a:tblGrid>
                <a:gridCol w="1152360"/>
                <a:gridCol w="1025640"/>
                <a:gridCol w="1089000"/>
                <a:gridCol w="1090440"/>
                <a:gridCol w="1089000"/>
                <a:gridCol w="1089360"/>
                <a:gridCol w="1089000"/>
                <a:gridCol w="1089000"/>
              </a:tblGrid>
              <a:tr h="100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th D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184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stoms and Tradi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important customs and traditions celebrated in your country. Include information about who celebrates and when they celeb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029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over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how laws are made and changed in your country. Tell how people are chosen to lead the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conom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8320" y="214776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ich goods and services are produced in your country. How do people typically provide for the needs of themselves and their famil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42:19Z</dcterms:created>
  <dc:creator>Connie Campbell</dc:creator>
  <dc:description/>
  <dc:language>en-US</dc:language>
  <cp:lastModifiedBy>Admin</cp:lastModifiedBy>
  <dcterms:modified xsi:type="dcterms:W3CDTF">2012-12-14T18:19:05Z</dcterms:modified>
  <cp:revision>1</cp:revision>
  <dc:subject/>
  <dc:title>Name of Your Country</dc:title>
</cp:coreProperties>
</file>